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FB7-477F-4516-94E7-35E04090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63F-5409-4875-BB35-98517C2D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10E-CB51-4EAA-9A35-9954B1A5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3BC-96AE-41CC-8D92-CE05D82C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4C3C-D142-439B-81E8-BA00C003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77FD-B979-4026-A0DA-C83C6AF3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344B-8496-49BD-86D8-064B7A65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27C3-CF3C-4A27-830E-BE9EE7F2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BA7D-FB66-4014-8CDF-3296D1B5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9841-69EF-45E8-A2CB-ABD69530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492B-FE77-4FC5-AF78-B37CEA06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DD2-E34E-4A3F-B814-19296B93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7C52-131B-451C-9C8E-151AB337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1961-B92D-41C9-B86B-7277DA04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D127-2F91-40A4-BD6E-CA959C3D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5159-AC0C-467C-AD4F-E02F98CA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C85B-4540-4376-9272-FE6EFCB0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C19FC-D262-40E0-B900-F8C0ECAD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78B4B-46EC-4586-A023-074F8F47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DE65A-E33E-4C06-B31B-1FBB91D1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01246-C662-4357-8217-93851732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0EB7-69CF-4901-9EA5-21D2E568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597-293E-48B7-A86D-094B5F0F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7ABFF-3A28-4BED-AD06-8177CE10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EAC9-A487-4EDE-92C5-F087FEDA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4D71E-741C-4BED-9830-88551A54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5954C-C3A2-4FA7-A145-11CA4CAC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38F52-0426-4302-8749-DAE81E5E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DF2F-97F7-4A23-AE72-F6218B9F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6AABE-646F-45E4-B277-891ACE7D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821B1-10C8-4E7D-ACF3-7276DDE6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A1258-7134-4656-B476-3E1CC365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E9BF2-5283-48A5-88D9-628DE7D4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0E6-3E0E-4843-9167-E1696DC1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A50D4-046C-41CA-9B9A-8F932F67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A59B6-E1A6-4F78-91FD-E61C34DF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0D900-BD04-4E34-A28D-281DD5E8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0B1F3-1644-4496-9032-48E02461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6512D-6B78-4C99-950F-C729CB50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2B847-F88B-4749-BCEF-B010D527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52238-64F5-46FC-8D50-38C3004B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528C2-1F69-4862-977E-4E50F494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821E1-949B-419F-B892-FEBDF8A0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E4A-A598-46B4-8DA5-93F28F47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4BFD-28DA-4025-AE8D-A253F1BC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5FC-7DAB-4B6F-88BC-FEF177FD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0B3-CAF2-4B9E-B17B-A79FCDC8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FB0-E65B-414B-8AA7-277CBB4D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800" spc="-1" strike="noStrike" cap="all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E1E17DB-8137-4622-B51A-89556DD9516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r" rtl="1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C69B2CD8-446B-4AEB-A33D-8B47605C4C2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0" lang="en-US" sz="2200" spc="-1" strike="noStrike">
                <a:solidFill>
                  <a:srgbClr val="f3da8c"/>
                </a:solidFill>
                <a:latin typeface="Lucida Sans"/>
              </a:rPr>
              <a:t>Click to edit Master title sty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3007800" cy="460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r" rtl="1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r" rtl="1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E0F77FCD-EC25-4286-A4B3-C48B728A6F4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442BC521-F9B2-492F-B17C-9B2101D5D6F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581600" cy="4876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2800" spc="-1" strike="noStrike" cap="all">
                <a:solidFill>
                  <a:srgbClr val="ff8a3b"/>
                </a:solidFill>
                <a:latin typeface="Comic Sans MS"/>
              </a:rPr>
              <a:t>New Farm Company for Marketing and Agricultural processing (NFC)</a:t>
            </a:r>
            <a:br>
              <a:rPr sz="3600"/>
            </a:br>
            <a:br>
              <a:rPr sz="3600"/>
            </a:br>
            <a:r>
              <a:rPr b="1" lang="en-US" sz="3600" spc="-1" strike="noStrike" cap="all">
                <a:solidFill>
                  <a:srgbClr val="ffff00"/>
                </a:solidFill>
                <a:latin typeface="Comic Sans MS"/>
              </a:rPr>
              <a:t>The role of cooperatives in opening new marketing channel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agriculture</a:t>
            </a: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GB" sz="2000" spc="-1" strike="noStrike" cap="small">
                <a:solidFill>
                  <a:srgbClr val="ffffff"/>
                </a:solidFill>
                <a:latin typeface="Book Antiqua"/>
              </a:rPr>
              <a:t>sector working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19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ecember 2011, 11:00 –12:3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inistry of Agricultur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4038120" cy="5744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Promote and market Palestinian produc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ionally, regionally and internationall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duce the problems of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xcess production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enhance the framers to diversify their crop productio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1" name="Content Placeholder 8" descr="IMG_0186.JPG"/>
          <p:cNvPicPr/>
          <p:nvPr/>
        </p:nvPicPr>
        <p:blipFill>
          <a:blip r:embed="rId1"/>
          <a:stretch/>
        </p:blipFill>
        <p:spPr>
          <a:xfrm>
            <a:off x="4952880" y="457200"/>
            <a:ext cx="3733560" cy="2800080"/>
          </a:xfrm>
          <a:prstGeom prst="rect">
            <a:avLst/>
          </a:prstGeom>
          <a:ln w="9525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30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69EFA815-E999-46B2-8C37-078C464BA8D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9" descr="IMG_0591.JPG"/>
          <p:cNvPicPr/>
          <p:nvPr/>
        </p:nvPicPr>
        <p:blipFill>
          <a:blip r:embed="rId2"/>
          <a:stretch/>
        </p:blipFill>
        <p:spPr>
          <a:xfrm>
            <a:off x="4952880" y="3505320"/>
            <a:ext cx="3657240" cy="2742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5280" y="274680"/>
            <a:ext cx="7391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Economic and financial advantages</a:t>
            </a: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486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ore production-opportunitie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income is generated to the cooperativ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Accessibility of rural products to marke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enhanc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velop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arketing skill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f cooperativ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31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BD80D854-E951-4F88-B559-B26018E96C7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3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695720" cy="5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7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Social impact on the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085760"/>
            <a:ext cx="8724600" cy="5393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nhancement of cooperation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etween small farmers and existing cooperatives and women clubs in the rural communities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Strengthening socioeconomic and  livelihood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f the small farmers and create job opportunities in the marginalized rural communitie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mpower the social responsibility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f CBOs towards their communit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Enhancing </a:t>
            </a: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ffective leader ship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d </a:t>
            </a: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mpowering the role of small and marginalized farmers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(male and female)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Book Antiqua"/>
              </a:rPr>
              <a:t>Encouraging young farmers to continue cultivating their lands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ich assists in reducing the migration process from rural to urban centers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3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18248427-56C4-4964-8977-E2757D2800B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3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5434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Future avenues: Marketing challeng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2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High cost of production inpu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reduce the competitivenes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Products quality consistency and stabilit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easonality of production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instable availability of commodities and pricing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Business management and innovation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reate new recipes, and reach feasible production syste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xportation opportunitie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omparativeness and controlled borders by the Occup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3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546CCC49-7AC0-45C7-A2DF-51AF5C31A6F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36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800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Thank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ldNum" idx="37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0C71A01B-FD1E-4CAA-A7C1-D2B5A402A92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3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4" descr="New Farm-logo.jpg"/>
          <p:cNvPicPr/>
          <p:nvPr/>
        </p:nvPicPr>
        <p:blipFill>
          <a:blip r:embed="rId1"/>
          <a:stretch/>
        </p:blipFill>
        <p:spPr>
          <a:xfrm>
            <a:off x="1828800" y="152280"/>
            <a:ext cx="5257440" cy="4290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Who we are</a:t>
            </a: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8000"/>
          </a:bodyPr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Farm Company was established in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2000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s a private limited shareholding company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wned in total by its founders;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a group of socially conscious agricultural cooperativ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the Peasants Union and two Palestinian non-governmental organizations dedicated for working in the fields of scientific research, social and economic agricultural developmen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-39096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should be emphasized that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production cooperatives – especially rural women cooperatives are eligible for holding capital shares in the compan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7F753C87-9C80-4692-A55F-B17FC1BE8DF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2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What is our business</a:t>
            </a: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?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281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8000"/>
          </a:bodyPr>
          <a:p>
            <a:pPr marL="521640" indent="-39096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FC's core business is food processing and marketing. </a:t>
            </a: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More specifically, NFC was established to offer the highest quality and value of traditional home-style foods produced by Palestinian cooperativ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using local inputs and raw materials free of unsafe and unhealthy chemical ingredien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16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F0F2EBA9-D77F-4CD0-B45F-D18047F53BF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3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6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178" name="Picture 6" descr="DSCF3700.JPG"/>
          <p:cNvPicPr/>
          <p:nvPr/>
        </p:nvPicPr>
        <p:blipFill>
          <a:blip r:embed="rId2"/>
          <a:stretch/>
        </p:blipFill>
        <p:spPr>
          <a:xfrm>
            <a:off x="2521080" y="3657600"/>
            <a:ext cx="4641480" cy="2514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076960" cy="3352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FC answers the call of </a:t>
            </a:r>
            <a:r>
              <a:rPr b="0" i="1" lang="en-US" sz="3200" spc="-1" strike="noStrike">
                <a:solidFill>
                  <a:srgbClr val="ffff00"/>
                </a:solidFill>
                <a:latin typeface="Book Antiqua"/>
              </a:rPr>
              <a:t>knowledgeable consumer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locally and internationally – who look for time-honored traditional </a:t>
            </a:r>
            <a:r>
              <a:rPr b="0" i="1" lang="en-US" sz="3200" spc="-1" strike="noStrike">
                <a:solidFill>
                  <a:srgbClr val="ffff00"/>
                </a:solidFill>
                <a:latin typeface="Book Antiqua"/>
              </a:rPr>
              <a:t>Palestinian recipes that are passed through generation, rich with heritage, authentic and real down home – style traditional food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Content Placeholder 8" descr="HPIM9553.JPG"/>
          <p:cNvPicPr/>
          <p:nvPr/>
        </p:nvPicPr>
        <p:blipFill>
          <a:blip r:embed="rId1"/>
          <a:stretch/>
        </p:blipFill>
        <p:spPr>
          <a:xfrm>
            <a:off x="2666880" y="3809880"/>
            <a:ext cx="3688920" cy="2614320"/>
          </a:xfrm>
          <a:prstGeom prst="rect">
            <a:avLst/>
          </a:prstGeom>
          <a:ln w="9525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2E9F6EDC-6EC9-4F40-82D9-289293DF627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3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27468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5000"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00"/>
                </a:solidFill>
                <a:latin typeface="Lucida Sans"/>
              </a:rPr>
              <a:t>Mission, Our values and Vision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71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FC's mission; Social responsibility and unwavering commitment to quality and safe product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just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y virtue of the mandate of NFC founding organizations, </a:t>
            </a:r>
            <a:r>
              <a:rPr b="0" i="1" lang="en-US" sz="2400" spc="-1" strike="noStrike">
                <a:solidFill>
                  <a:srgbClr val="ffff00"/>
                </a:solidFill>
                <a:latin typeface="Book Antiqua"/>
              </a:rPr>
              <a:t>it works to promote economic and social development networks between NFC share-holders organization on one hand, and contributing to the agricultural and rural development in Palestine on the other hand.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perating on a commercial basis, NFC is committed to the principles of cooperative growth and economic empowerment of rural wom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just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FC works with its shareholders and through them in pursuing tirelessly growth opportunities; while adhering to the highest ethical conduct in all of our business dealing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D2616045-28D6-47E3-BFC8-094FD0B4A9C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5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20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4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ont</a:t>
            </a: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……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240" cy="326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1000"/>
          </a:bodyPr>
          <a:p>
            <a:pPr marL="498960" indent="-37440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strive to be known for our consistent high quality traditional food products, and business concept values.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Our consumers will distinguish our brands; come to love them, and recommend them to others; their reliability to, and satisfaction of, our products will be the key of our succe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96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9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2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2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9DD05E48-79C0-4341-B2EE-5448758F29F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193" name="Picture 7" descr="HPIM9544.JPG"/>
          <p:cNvPicPr/>
          <p:nvPr/>
        </p:nvPicPr>
        <p:blipFill>
          <a:blip r:embed="rId2"/>
          <a:stretch/>
        </p:blipFill>
        <p:spPr>
          <a:xfrm>
            <a:off x="0" y="0"/>
            <a:ext cx="4038120" cy="3028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403812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customers will derive satisfaction from knowing that their purchasing of NFC products has helped a large sector of Palestinian indigenous farmers and rural women in sustaining their livelihoo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Content Placeholder 8" descr="HPIM9631.JPG"/>
          <p:cNvPicPr/>
          <p:nvPr/>
        </p:nvPicPr>
        <p:blipFill>
          <a:blip r:embed="rId1"/>
          <a:stretch/>
        </p:blipFill>
        <p:spPr>
          <a:xfrm>
            <a:off x="4724280" y="1981080"/>
            <a:ext cx="4120920" cy="3090600"/>
          </a:xfrm>
          <a:prstGeom prst="rect">
            <a:avLst/>
          </a:prstGeom>
          <a:ln w="9525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4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B914D6C7-C39F-46E2-A337-5B22CBFA1A7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Selection of producers</a:t>
            </a:r>
            <a:r>
              <a:rPr b="1" lang="en-US" sz="3200" spc="-1" strike="noStrike">
                <a:solidFill>
                  <a:srgbClr val="ffff00"/>
                </a:solidFill>
                <a:latin typeface="Lucida San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240" cy="5089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ctive Agricultural cooperatives and women club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roups who have a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ocial responsibility towards their communiti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roups who are ready to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participate actively in developing the Palestinian rural communiti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mall agro- productive groups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o face problems in marketing (with main focus on women groups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64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rural producers who is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protecting the Geographic Identit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of the Palestinian agro-products and foods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2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2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8C9A1596-7A6E-4CCD-AF0D-AA364C698B3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00064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What is the role of the company: Added value and expertise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6095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0000"/>
          </a:bodyPr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prove the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quality of the Palestinian rural product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 match the national and international standar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k on minimizing production costs to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maximize farmer/cooperative profit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enhance the access of Palestinian consume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to the locally made food with comparative pric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-3870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ign suitable packaging and labeling that reflects the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uniqueness, culture and the nutritional value of the company and it related CBOs produc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58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1288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7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B6BD7D97-D7DE-4B51-9003-47D1D14FEBE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2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N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4" descr="New Farm-logo.jpg"/>
          <p:cNvPicPr/>
          <p:nvPr/>
        </p:nvPicPr>
        <p:blipFill>
          <a:blip r:embed="rId1"/>
          <a:stretch/>
        </p:blipFill>
        <p:spPr>
          <a:xfrm>
            <a:off x="0" y="0"/>
            <a:ext cx="1294920" cy="1056960"/>
          </a:xfrm>
          <a:prstGeom prst="rect">
            <a:avLst/>
          </a:prstGeom>
          <a:ln w="9525">
            <a:noFill/>
          </a:ln>
        </p:spPr>
      </p:pic>
      <p:pic>
        <p:nvPicPr>
          <p:cNvPr id="208" name="Picture 6" descr="IMG_1584.JPG"/>
          <p:cNvPicPr/>
          <p:nvPr/>
        </p:nvPicPr>
        <p:blipFill>
          <a:blip r:embed="rId2"/>
          <a:stretch/>
        </p:blipFill>
        <p:spPr>
          <a:xfrm>
            <a:off x="6781680" y="3886200"/>
            <a:ext cx="1828440" cy="2437920"/>
          </a:xfrm>
          <a:prstGeom prst="rect">
            <a:avLst/>
          </a:prstGeom>
          <a:ln w="9525">
            <a:noFill/>
          </a:ln>
        </p:spPr>
      </p:pic>
      <p:pic>
        <p:nvPicPr>
          <p:cNvPr id="209" name="Picture 7" descr="IMG_0245.JPG"/>
          <p:cNvPicPr/>
          <p:nvPr/>
        </p:nvPicPr>
        <p:blipFill>
          <a:blip r:embed="rId3"/>
          <a:stretch/>
        </p:blipFill>
        <p:spPr>
          <a:xfrm>
            <a:off x="6093000" y="1295280"/>
            <a:ext cx="3050640" cy="2196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1018</TotalTime>
  <Application>LibreOffice/7.4.7.2$Linux_X86_64 LibreOffice_project/40$Build-2</Application>
  <AppVersion>15.0000</AppVersion>
  <Words>765</Words>
  <Paragraphs>9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4:57:09Z</dcterms:created>
  <dc:creator>haitham</dc:creator>
  <dc:description/>
  <dc:language>en-US</dc:language>
  <cp:lastModifiedBy>haitham</cp:lastModifiedBy>
  <dcterms:modified xsi:type="dcterms:W3CDTF">2011-12-17T19:21:38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4</vt:r8>
  </property>
</Properties>
</file>