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7ED-3A58-46CE-9A26-60E54283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FAC-0493-4878-8748-19B2F1A2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5A0-BDFC-4F17-AB60-BEDAFEAE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C6C-2957-45D5-BB50-1CFAF50A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D385-56F1-45F0-9275-3272FF78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EBB4-34DE-47AC-8024-92A111F0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CE7E-2092-4EC0-A09F-4E71F3EE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7924-7695-4855-BE8A-E499614B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EE21-751E-4059-A29D-4BA5BECB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F0BD-4A1B-4620-8D8D-56510B84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B9FC-F19F-4932-9653-7244C2B4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621-C07B-469C-B90E-71B751ED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4115-1C7F-4806-A769-D1998A3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D192-BD23-4E46-BFE5-E7012FD6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DC12-FF60-4117-B7DA-1A1A322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5336-A9C7-4E26-8D43-8A72A580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E2AB-341B-4033-B972-45EF745A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347F-8276-48DC-9FE6-70578832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6A93-A295-4A4D-834C-3DF6E27C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6759-7901-487B-BC8D-4A4CA794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EC0C-8C0A-4747-98F1-ED77B194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1158-FA7E-49EC-930B-D4F03DB2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14A-F56F-43A0-A718-BFB33121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9B153-8094-454B-B42E-0A53D50B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A92F-F019-49D9-831F-49BF2744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AF86-4ECC-4640-A80C-BBE9A681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13C3-5BFF-4641-8FDF-9AE135A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6FE91-BFFF-4165-8F7A-CD6DFDB5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A6F7-F7AA-4422-A769-BF6E8BBD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A4A5-F2BD-4904-AB0A-C7D0A5C0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B6C93-B9EB-47E0-B48D-9B98C0AA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44E4-9C8D-469B-B7C3-A2B05D4E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E16F-B8C2-4F5A-AA61-77D0B9EE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58C-176F-4420-B473-FCC9F5F8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F02AB-69ED-40CD-89F8-51C0A59B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230D-02BE-4D6F-B968-F5FA406C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C7D5-D89B-4FCE-90D7-61AC7BA9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C761D-FF13-4F1F-9897-D52BC83E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26CA-F008-406C-A535-7B25AF26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B970-14CC-4D62-B2C4-828590F6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D865E-B01D-43A4-B83B-2E72C4B7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A926-C983-40F0-B93B-F257ACAB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A1B0B-1634-4F5D-B1CF-4F21851A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0D3-4C67-4494-94F7-8367D3F2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B9C-0AEB-4A59-9895-22B9D861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42A-C701-4295-9770-A124940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230-2C03-4243-90B0-9D1FC9E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85A-9F9F-4BAE-83F9-E56E9F17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9322F52-F4C3-4C3F-8431-D5061D60769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1A95D01-AF3A-4683-A7DA-B7E54B802F2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3da8c"/>
                </a:solidFill>
                <a:latin typeface="Lucida Sans"/>
              </a:rPr>
              <a:t>Click to edit Master title sty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7800" cy="460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 rtl="1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DEC9622-CE2F-4BA0-9310-30425009A49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8532C36-A987-4BFA-A35C-D499BB062A0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581600" cy="487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ff8a3b"/>
                </a:solidFill>
                <a:latin typeface="Comic Sans MS"/>
              </a:rPr>
              <a:t>New Farm Company for Marketing and Agricultural processing (NFC)</a:t>
            </a:r>
            <a:br>
              <a:rPr sz="3600"/>
            </a:br>
            <a:br>
              <a:rPr sz="3600"/>
            </a:br>
            <a:r>
              <a:rPr b="1" lang="en-US" sz="3600" spc="-1" strike="noStrike" cap="all">
                <a:solidFill>
                  <a:srgbClr val="ffff00"/>
                </a:solidFill>
                <a:latin typeface="Comic Sans MS"/>
              </a:rPr>
              <a:t>The role of cooperatives in opening new marketing channel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agriculture</a:t>
            </a: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sector working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9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cember 2011, 11:00 –12:3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inistry of Agricultur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4038120" cy="574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mote and market Palestinian produc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ly, regionally and internationall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duce the problems of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cess produc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enhance the framers to diversify their crop productio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1" name="Content Placeholder 8" descr="IMG_0186.JPG"/>
          <p:cNvPicPr/>
          <p:nvPr/>
        </p:nvPicPr>
        <p:blipFill>
          <a:blip r:embed="rId1"/>
          <a:stretch/>
        </p:blipFill>
        <p:spPr>
          <a:xfrm>
            <a:off x="4952880" y="457200"/>
            <a:ext cx="3733560" cy="280008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30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0532BE2-2474-4DF3-BABD-7A47C6C590C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9" descr="IMG_0591.JPG"/>
          <p:cNvPicPr/>
          <p:nvPr/>
        </p:nvPicPr>
        <p:blipFill>
          <a:blip r:embed="rId2"/>
          <a:stretch/>
        </p:blipFill>
        <p:spPr>
          <a:xfrm>
            <a:off x="4952880" y="3505320"/>
            <a:ext cx="3657240" cy="2742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391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Economic and financial advantage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8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ore production-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income is generated to the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ccessibility of rural products to marke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enhanc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rketing skill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31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697A722-3EE0-4AF6-866A-C302FC4117F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695720" cy="5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ocial impact on the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085760"/>
            <a:ext cx="8724600" cy="539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hancement of cooperation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etween small farmers and existing cooperatives and women clubs in the rural communitie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Strengthening socioeconomic and  livelihoo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the small farmers and create job opportunities in the marginalized rural communiti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 the social responsibility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CBOs towards their commun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nhancing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ffective leader ship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d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ing the role of small and marginalized farmer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(male and female)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couraging young farmers to continue cultivating their land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ich assists in reducing the migration process from rural to urban center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3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7DAFD6D-1615-4D5D-83E0-40FB5F778BE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3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Future avenues: Marketing challen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2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High cost of production inpu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duce the competitivenes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ducts quality consistency and stabilit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easonality of production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instable availability of commodities and pric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usiness management and innova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reate new recipes, and reach feasible production syste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portation 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omparativeness and controlled borders by the Occup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AB80818-7B23-4BD5-9AC8-CDFB4A0F49F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3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800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Thank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Num" idx="3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B9F1F8C-1E25-4D51-85B3-C04BDD51455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4" descr="New Farm-logo.jpg"/>
          <p:cNvPicPr/>
          <p:nvPr/>
        </p:nvPicPr>
        <p:blipFill>
          <a:blip r:embed="rId1"/>
          <a:stretch/>
        </p:blipFill>
        <p:spPr>
          <a:xfrm>
            <a:off x="1828800" y="152280"/>
            <a:ext cx="5257440" cy="4290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Who we are</a:t>
            </a: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Farm Company was established in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200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s a private limited shareholding company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wned in total by its founders;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a group of socially conscious agricultural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 Peasants Union and two Palestinian non-governmental organizations dedicated for working in the fields of scientific research, social and economic agricultural developmen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hould be emphasized that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production cooperatives – especially rural women cooperatives are eligible for holding capital shares in the compan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C3ADD74-E2A6-42F3-933E-F018BF82983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What is our business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81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FC's core business is food processing and marketing.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More specifically, NFC was established to offer the highest quality and value of traditional home-style foods produced by Palestinian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using local inputs and raw materials free of unsafe and unhealthy chemical ingredi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3D73004-356A-416E-A67B-2273E57E9A9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6" descr="DSCF3700.JPG"/>
          <p:cNvPicPr/>
          <p:nvPr/>
        </p:nvPicPr>
        <p:blipFill>
          <a:blip r:embed="rId2"/>
          <a:stretch/>
        </p:blipFill>
        <p:spPr>
          <a:xfrm>
            <a:off x="2521080" y="3657600"/>
            <a:ext cx="4641480" cy="2514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076960" cy="335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FC answers the call of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knowledgeable consume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locally and internationally – who look for time-honored traditional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Palestinian recipes that are passed through generation, rich with heritage, authentic and real down home – style traditional food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Content Placeholder 8" descr="HPIM9553.JPG"/>
          <p:cNvPicPr/>
          <p:nvPr/>
        </p:nvPicPr>
        <p:blipFill>
          <a:blip r:embed="rId1"/>
          <a:stretch/>
        </p:blipFill>
        <p:spPr>
          <a:xfrm>
            <a:off x="2666880" y="3809880"/>
            <a:ext cx="3688920" cy="261432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AD141957-F9F8-4C75-9706-371CA43C272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Mission, Our values and Vis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's mission; Social responsibility and unwavering commitment to quality and safe product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virtue of the mandate of NFC founding organizations, </a:t>
            </a:r>
            <a:r>
              <a:rPr b="0" i="1" lang="en-US" sz="2400" spc="-1" strike="noStrike">
                <a:solidFill>
                  <a:srgbClr val="ffff00"/>
                </a:solidFill>
                <a:latin typeface="Book Antiqua"/>
              </a:rPr>
              <a:t>it works to promote economic and social development networks between NFC share-holders organization on one hand, and contributing to the agricultural and rural development in Palestine on the other hand.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rating on a commercial basis, NFC is committed to the principles of cooperative growth and economic empowerment of rural wom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 works with its shareholders and through them in pursuing tirelessly growth opportunities; while adhering to the highest ethical conduct in all of our business dealing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ECE5F4A-5D60-4D8A-B6CD-6AE5FC92609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5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4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ont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……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240" cy="326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1000"/>
          </a:bodyPr>
          <a:p>
            <a:pPr marL="498960" indent="-3744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strive to be known for our consistent high quality traditional food products, and business concept values.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Our consumers will distinguish our brands; come to love them, and recommend them to others; their reliability to, and satisfaction of, our products will be the key of our succe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2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2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79E80F4-0AEE-4A74-91E8-3FE032E5338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7" descr="HPIM9544.JPG"/>
          <p:cNvPicPr/>
          <p:nvPr/>
        </p:nvPicPr>
        <p:blipFill>
          <a:blip r:embed="rId2"/>
          <a:stretch/>
        </p:blipFill>
        <p:spPr>
          <a:xfrm>
            <a:off x="0" y="0"/>
            <a:ext cx="4038120" cy="30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1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customers will derive satisfaction from knowing that their purchasing of NFC products has helped a large sector of Palestinian indigenous farmers and rural women in sustaining their livelihoo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Content Placeholder 8" descr="HPIM9631.JPG"/>
          <p:cNvPicPr/>
          <p:nvPr/>
        </p:nvPicPr>
        <p:blipFill>
          <a:blip r:embed="rId1"/>
          <a:stretch/>
        </p:blipFill>
        <p:spPr>
          <a:xfrm>
            <a:off x="4724280" y="1981080"/>
            <a:ext cx="4120920" cy="3090600"/>
          </a:xfrm>
          <a:prstGeom prst="rect">
            <a:avLst/>
          </a:prstGeom>
          <a:ln w="9525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4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5DD8F28-30DE-4A5F-987F-D65D73E50B0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election of producer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240" cy="508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Agricultural cooperatives and women club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have a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ocial responsibility towards their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are ready to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articipate actively in developing the Palestinian rural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mall agro- productive group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face problems in marketing (with main focus on women groups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ural producers who is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rotecting the Geographic Identit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f the Palestinian agro-products and food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2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2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D6FC464F-DC39-434D-B621-12C7B933EEB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0064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hat is the role of the company: Added value and expertise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095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0000"/>
          </a:bodyPr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rove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ality of the Palestinian rural produc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match the national and international standa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 on minimizing production costs to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ximize farmer/cooperative profi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nhance the access of Palestinian consum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the locally made food with comparative pric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ign suitable packaging and labeling that reflects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uniqueness, culture and the nutritional value of the company and it related CBOs produc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288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4967608-4914-41BF-9EED-016DA659444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2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6" descr="IMG_1584.JPG"/>
          <p:cNvPicPr/>
          <p:nvPr/>
        </p:nvPicPr>
        <p:blipFill>
          <a:blip r:embed="rId2"/>
          <a:stretch/>
        </p:blipFill>
        <p:spPr>
          <a:xfrm>
            <a:off x="6781680" y="3886200"/>
            <a:ext cx="1828440" cy="243792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7" descr="IMG_0245.JPG"/>
          <p:cNvPicPr/>
          <p:nvPr/>
        </p:nvPicPr>
        <p:blipFill>
          <a:blip r:embed="rId3"/>
          <a:stretch/>
        </p:blipFill>
        <p:spPr>
          <a:xfrm>
            <a:off x="6093000" y="1295280"/>
            <a:ext cx="3050640" cy="219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018</TotalTime>
  <Application>LibreOffice/7.4.7.2$Linux_X86_64 LibreOffice_project/40$Build-2</Application>
  <AppVersion>15.0000</AppVersion>
  <Words>765</Words>
  <Paragraphs>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57:09Z</dcterms:created>
  <dc:creator>haitham</dc:creator>
  <dc:description/>
  <dc:language>en-US</dc:language>
  <cp:lastModifiedBy>haitham</cp:lastModifiedBy>
  <dcterms:modified xsi:type="dcterms:W3CDTF">2011-12-17T19:21:38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